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A46D-5778-43B3-9EC4-6443AB32FF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2F24-D500-4527-AEAF-A2E32446DD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54B-3329-4909-AADD-0A58A811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CC5-BEB1-4922-86FB-D2B08237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10DB-B70F-47C6-BFFB-562DB98A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0EC-55DC-4A65-BD36-DAAB0790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92E4-F480-4345-B9A1-71401D41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91B3-4170-4718-B17A-BEC0D1A5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8784-0768-4CC4-A5E4-C13C6197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8372-CACC-4AF9-AD45-8BB472BC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46CE-B261-4FD2-858B-D0EB4A21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5A62-D80E-44A4-9035-59535D33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D190-B3BE-4293-A407-D7AC064F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C736-5A50-4950-9E00-8485D5FC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B57F-5711-4B91-A0D5-E0401D78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03E8-2E82-4A8B-8DC3-5CFDBD59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1717-0509-4A79-A48E-0449BE99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26C1-7F1D-4380-BAF9-5AE171BE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3016-3C4A-40DD-93A0-63EB5921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8A8A3-4AF3-4FCF-B8F4-E1382D5F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9D9BF-6B44-44B6-A077-CD81623F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F5AD5-87CF-4304-BC3E-BA37B93D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EB9B1-4341-4E38-8117-1EC240FC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6FAA4-B318-4B5F-BAC1-E1419407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9B5-BE53-45F3-B084-651DF972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A695A-A747-4E9E-8CDA-FFA3ADA3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DD702-E9DC-4C38-B691-56F2265C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A081E-43F2-4738-9F9D-B136170E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3C6E3-3CD4-4125-B05C-07022567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2A3B1-EA32-412E-8B7C-6D175096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6346E-6C0C-4668-B359-DCC7B196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76D02-9CEE-4F8D-9CFF-1724654D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AB5DC-1286-49A8-9D12-F618777B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1A8AF-D391-40ED-A2C0-400D9727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E5A05-8DDE-4B3F-B9CD-DF1D1CBA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CE0-06FA-43B4-9739-30E30B83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AFE02-88F5-4DBF-8F99-40FDA796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DDB61-44B2-4FB3-B73F-36681D07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7BF76-D639-43B9-B7AA-5251A313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425E8-40B4-4DF0-9FED-011B3F1A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D2128-BFCF-4A7A-A1A6-64876140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9B18D-81D4-4A05-BBE1-4B6501BC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292A1-37E1-40BD-9CC3-8C82DAD8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AF6FC-0FAE-4C39-88CC-428B5159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39638-0B64-4695-8606-43D815E1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28D6-83A9-4349-8B3C-DF24D365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DA46-C486-4EC2-AFA1-8238D45F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20D-E744-4221-B464-5BAAC0DF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F8C-7437-48DC-8E17-0697573F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B1C-D3A2-44B9-BE5E-9A822952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DF24-0D7A-4F6A-AECD-F49C6C9BC9F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F02D-08C2-49DC-9FF6-7FE6A5BF122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3E7B-B5D4-44F0-8B5F-490A9E3C814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CFA4-9E6C-4AA8-9EF4-FD0C5572B94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817560" y="3131640"/>
            <a:ext cx="717552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Picture 2" descr="C:\Users\Оксана\Desktop\УЧИТЕЛЬ ГОДА 2025\беспилотники\L0--KWZLoBU.jpg"/>
          <p:cNvPicPr/>
          <p:nvPr/>
        </p:nvPicPr>
        <p:blipFill>
          <a:blip r:embed="rId1"/>
          <a:stretch/>
        </p:blipFill>
        <p:spPr>
          <a:xfrm>
            <a:off x="324000" y="281160"/>
            <a:ext cx="8496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Picture 2" descr="C:\Users\Оксана\Desktop\УЧИТЕЛЬ ГОДА 2025\беспилотники\suMFcTqR6FU.jpg"/>
          <p:cNvPicPr/>
          <p:nvPr/>
        </p:nvPicPr>
        <p:blipFill>
          <a:blip r:embed="rId1"/>
          <a:stretch/>
        </p:blipFill>
        <p:spPr>
          <a:xfrm>
            <a:off x="250920" y="260280"/>
            <a:ext cx="83534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2" descr="C:\Users\Оксана\Desktop\УЧИТЕЛЬ ГОДА 2025\беспилотники\m-98c6f1SCE.jpg"/>
          <p:cNvPicPr/>
          <p:nvPr/>
        </p:nvPicPr>
        <p:blipFill>
          <a:blip r:embed="rId1"/>
          <a:stretch/>
        </p:blipFill>
        <p:spPr>
          <a:xfrm>
            <a:off x="250920" y="0"/>
            <a:ext cx="87138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2" descr="C:\Users\Оксана\Desktop\УЧИТЕЛЬ ГОДА 2025\беспилотники\oxVAiTP1ZYk.jpg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2" descr="C:\Users\Оксана\Desktop\УЧИТЕЛЬ ГОДА 2025\беспилотники\kdh-804kAyI.jpg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08T19:23:44Z</dcterms:created>
  <dc:creator>Оксана</dc:creator>
  <dc:description/>
  <dc:language>en-US</dc:language>
  <cp:lastModifiedBy>sch10-17</cp:lastModifiedBy>
  <dcterms:modified xsi:type="dcterms:W3CDTF">2025-09-24T09:34:42Z</dcterms:modified>
  <cp:revision>1</cp:revision>
  <dc:subject/>
  <dc:title>Презентация PowerPoint</dc:title>
</cp:coreProperties>
</file>